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17C-2CF4-4D21-83A2-9D28BBC6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6A9-820F-49D5-94C0-21721287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EDB-1543-4AAB-9E27-8AA2B6A8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739-65F4-4576-AA6B-DD5E986D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B57-DF0A-44C7-87EA-4620E351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FCA-F99E-42D8-9DAA-6350F3DF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9A1-0FB2-4BD6-8409-FC4B8114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3A9-623D-40A4-9940-DB72BBFE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096-A127-432A-8CE3-056302D4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594-67CB-49F9-A9D0-C5FC1312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C56-9AB7-481D-AE55-6DAA1529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0B9-3BE2-468E-80B3-BC9B2638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9705-81C5-42F6-83E4-0D0D2A34D8B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5 Svitlo ráno po tme no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tlo ráno po tme noc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ri úsvit, svetla j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vé divy Božej moc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dia pieseň vďaky v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rstvo slávi Stvor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ho múdrosť veleb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mu chvála patrí vrel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zemi aj na neb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zemi aj na neb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chce trápiť dušu staro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trieť úsmev žiariv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do srdca vložil rado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ovládca žičlivý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je láskavý a stál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ca spásy, žehna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je hoden našej chvály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čo deň bez prestan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čo deň bez prest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ledné raz ráno svit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c sa navždy pomi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budnú sa strasti všedné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deň spásy nastan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nkom nám tam bude več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rca sám, náš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mu chválu vzdáme vďač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n slávny spásy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za ten slávny spásy cieľ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7:14:41Z</dcterms:modified>
  <cp:revision>67</cp:revision>
  <dc:subject/>
  <dc:title>Je veľký náš Pán, on slávy je Kráľ Nech do všetkých strán  spev vrúcnych znie chvál.</dc:title>
</cp:coreProperties>
</file>